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E70-F24E-412E-A8E9-DD4E75D2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F58-126A-4929-BAF4-E15C7538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0CA-DABC-4ACE-9ABC-05953E5B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221-9A98-40B5-98A7-9BB796FD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24C-78DC-4E77-AEED-CB99740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4C6-A4FC-42F4-81F1-6AC7EA38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494-B0AC-43AD-B30B-D0C875F6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74E-4FE8-48E6-9883-4D25AE8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F5C-E7F7-4940-9EFD-0ACBD2A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4EA-2CA6-41AB-B91B-ADDBE94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F0C-B04E-4C9A-8982-97C031B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8BE-AAA9-42BB-BB0C-E6BCEA9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389-6F0F-455B-89C6-6670E6C0A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858000" cy="861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6:31:04Z</dcterms:created>
  <dc:creator>344-student</dc:creator>
  <dc:description/>
  <dc:language>en-US</dc:language>
  <cp:lastModifiedBy>344-student</cp:lastModifiedBy>
  <dcterms:modified xsi:type="dcterms:W3CDTF">2012-10-02T16:32:13Z</dcterms:modified>
  <cp:revision>1</cp:revision>
  <dc:subject/>
  <dc:title>Slide 1</dc:title>
</cp:coreProperties>
</file>